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46E-F278-4FA1-8E7D-ECCEABA9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4EC-142B-452D-8959-C535C03B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205-664F-46E6-BFB2-DD81252D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F42-0134-4A5D-B5F2-69007409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94F-4D14-4E03-AF1C-E7892E1A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118-125A-44BD-897F-4AC4541E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A27-D35E-463A-9BD1-26AD263A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A1A-5DFB-4CAD-BDB0-E393A230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320" y="-227520"/>
            <a:ext cx="4419720" cy="62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26E-4A06-44E7-BB1E-FA330848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1FF-C56B-405B-AA8C-5A3F63E5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343-2E98-475E-8832-525CCEB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153-756A-4152-BCCE-B120DF4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41920" y="104760"/>
            <a:ext cx="18396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836640"/>
            <a:ext cx="8785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94200" y="257040"/>
            <a:ext cx="183960" cy="4273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31920" y="988920"/>
            <a:ext cx="878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47712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-227520"/>
            <a:ext cx="4419720" cy="13410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-228960" y="6315120"/>
            <a:ext cx="16844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8 Jun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1142640" y="6462720"/>
            <a:ext cx="74674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 SCT/Pixel TIM FDR/PRR  Martin Postranecky: COSTS EST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848360" y="6462720"/>
            <a:ext cx="68580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0AD3-76BE-46A6-A61F-90EE69CC1CD1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27160" y="4495680"/>
            <a:ext cx="4891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ATLAS  SCT/Pixel  TIM  FDR/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28 Jun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2443320"/>
            <a:ext cx="3746520" cy="853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ysics &amp; Astronom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P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5497560"/>
            <a:ext cx="6912000" cy="8254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Postraneck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Lane, Matthew Wa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6381720"/>
            <a:ext cx="9036000" cy="47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57336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OSTS  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142056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5F1-BD8F-431C-B46C-6CB1FCE7B5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066680"/>
            <a:ext cx="426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-3 ( PC3216M ) PARTS CO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 Black"/>
              </a:rPr>
              <a:t>FOR 20x MODULE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ORDERED AND MADE    </a:t>
            </a:r>
            <a:r>
              <a:rPr b="0" lang="en-US" sz="2400" spc="-1" strike="noStrike">
                <a:solidFill>
                  <a:srgbClr val="ff5050"/>
                </a:solidFill>
                <a:latin typeface="Arial Black"/>
              </a:rPr>
              <a:t>AT THE SAME TIME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SED ON 2003 PRICES AS QUOTED FOR THE 20x SCT &amp; PIXEL TIM-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808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C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£   541-65 + 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scret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£   377-39 + VA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CB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£ 1800-00 + 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£   150-00 + 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5050"/>
                </a:solidFill>
                <a:uFillTx/>
                <a:latin typeface="Arial Black"/>
              </a:rPr>
              <a:t>GRAND TOTA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5050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5050"/>
                </a:solidFill>
                <a:latin typeface="Arial Black"/>
              </a:rPr>
              <a:t>  </a:t>
            </a:r>
            <a:r>
              <a:rPr b="0" i="1" lang="en-US" sz="2400" spc="-1" strike="noStrike" u="sng">
                <a:solidFill>
                  <a:srgbClr val="ff5050"/>
                </a:solidFill>
                <a:uFillTx/>
                <a:latin typeface="Arial Black"/>
              </a:rPr>
              <a:t>£ 2869.04 + VA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6240" y="168120"/>
            <a:ext cx="424980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COST OF TIM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734-AEF1-4BC3-9CE1-B27C211D7F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008000"/>
            <a:ext cx="739152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TIM-3 ( PC3216M ) PARTS COST</a:t>
            </a:r>
            <a:r>
              <a:rPr b="1" i="1" lang="en-GB" sz="1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FOR 20x MODULES ORDERED AND MADE AT THE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( BASED ON 2003 PRICES AS QUOTED FOR THE 20x SCT &amp; PIXEL TIM-3s )</a:t>
            </a:r>
            <a:br>
              <a:rPr sz="1400"/>
            </a:br>
            <a:br>
              <a:rPr sz="1200"/>
            </a:b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A)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ICs</a:t>
            </a:r>
            <a:br>
              <a:rPr sz="12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DU-16F ( Delay lines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4-2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171-00 + VAT</a:t>
            </a:r>
            <a:br>
              <a:rPr sz="1000"/>
            </a:b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ilinx 2S200E-6FG456C ( FPGA-1 ), smd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2-43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22-43</a:t>
            </a:r>
            <a:br>
              <a:rPr sz="1000"/>
            </a:b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ilinx 2S600E-7FG456C ( FPGA-2 ), smd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7-61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87-61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ilinx XC18V02PC44C ( PROM-1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2-89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2-89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ilinx XC18V04PC44C ( PROM-2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7-3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7-3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raco ( dc/dc module )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0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70-00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P3963ES-1.8 ( dc/dc module ), smd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-40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2-40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Y100E111JC ( clock driver ), smd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-00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20-0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0.16 MHz ( X-tal oscillator ), dil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-00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6-0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G8640AN ( prog. oscillator ), dil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-90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3-8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CS581-02 ( Clk. multiplexer ), smd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1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6-3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C100ELT21D ( PECL -&gt; TTL ), smd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00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3-0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C100ELT20D ( TTL -&gt; PECL ), smd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00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3-00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C10H124FN ( TTL -&gt; ECL ), sm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2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6-25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C10H125FN ( ECL -&gt; TTL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2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6-25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C10192FN ( ECL -&gt; NIM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25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LVT16244BDL ( LV buffer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.5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4-4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LVT244AD ( LV buffer )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47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1-88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ALVC164245DL (V/LV tranceivers),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2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2-4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0A10500 ( Delay Line ), di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-4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4-4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ABTxxx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8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Fxxx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5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2-5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LSxxx, di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84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0-84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Fxxx, di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4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--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£ 541-65 + V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5840" y="168120"/>
            <a:ext cx="437688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COST OF TIM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EBD-F742-4EDB-A48A-4DCC8DA002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82720" y="763200"/>
            <a:ext cx="6584760" cy="56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B)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Discrete components + hardware</a:t>
            </a:r>
            <a:br>
              <a:rPr sz="12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sto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1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1-2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6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ors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0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8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16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ors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.0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11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-pack resistors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1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7-5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8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ED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76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use + Holder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5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-row/160-pin HAR-BUS 64x connecto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2-69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38-07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arwin Pin heade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-0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3-2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EMO connecto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-2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78-75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DO connecto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8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connecto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24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ciDip SIL connector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0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4-2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P socket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-33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60-0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ush-button switch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5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3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-way switch, smd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-6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6-4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otary switch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-7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23-5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andle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-66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5-32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ont pane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-2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4-25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</a:t>
            </a:r>
            <a:br>
              <a:rPr sz="800"/>
            </a:b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£   377-39 + V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C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PCB</a:t>
            </a:r>
            <a:br>
              <a:rPr sz="12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150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ssembly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650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</a:t>
            </a:r>
            <a:br>
              <a:rPr sz="10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£  1800-00 + V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D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	</a:t>
            </a:r>
            <a:r>
              <a:rPr b="0" i="1" lang="en-GB" sz="12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OTHER</a:t>
            </a:r>
            <a:br>
              <a:rPr sz="12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/panel manufactur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50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oundary scan testing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100-00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</a:t>
            </a:r>
            <a:br>
              <a:rPr sz="10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£   150-00 + V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 Black"/>
                <a:ea typeface="Times New Roman"/>
              </a:rPr>
              <a:t>GRAND TOTAL :   £ 2869.04 + VAT</a:t>
            </a:r>
            <a:br>
              <a:rPr sz="10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+10% contingency  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£3156 + VAT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+20% contingency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£ 3443  + V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00" y="168120"/>
            <a:ext cx="426240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COST OF TIM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A78-C9F4-40AD-9C02-960CD552BA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7:31:16Z</dcterms:created>
  <dc:creator>mp</dc:creator>
  <dc:description/>
  <dc:language>en-US</dc:language>
  <cp:lastModifiedBy>mp</cp:lastModifiedBy>
  <dcterms:modified xsi:type="dcterms:W3CDTF">2004-06-22T13:07:15Z</dcterms:modified>
  <cp:revision>14</cp:revision>
  <dc:subject/>
  <dc:title>Slide 1</dc:title>
</cp:coreProperties>
</file>