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E9A6-6402-494E-A5BC-2B2CEB53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-227520"/>
            <a:ext cx="441972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9280" y="373284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B23C-CD96-4835-ADF6-870CE360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-227520"/>
            <a:ext cx="441972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928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144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3D39-9D56-44B3-A935-92D7FA43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-227520"/>
            <a:ext cx="441972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4964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000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928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4964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000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46B1-F681-4E0F-BAB0-99428A7C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-227520"/>
            <a:ext cx="441972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955D-0560-477A-B17E-CC3841B6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-227520"/>
            <a:ext cx="441972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759C-C72B-4C53-81B0-DDEB2F1B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-227520"/>
            <a:ext cx="441972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6113-27CF-4E63-AD85-85F7DEAC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-227520"/>
            <a:ext cx="441972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DD67-5EE1-470E-8113-5DEEE8C0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320" y="-227520"/>
            <a:ext cx="4419720" cy="62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027D-8D99-4140-9089-29D239B4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-227520"/>
            <a:ext cx="441972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E215-E160-4235-8911-F818540F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-227520"/>
            <a:ext cx="441972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144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8DEF-7349-419D-A0A7-670C88D3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-227520"/>
            <a:ext cx="441972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373284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6EE6-9E81-49CB-B7E5-42B89EAC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41920" y="104760"/>
            <a:ext cx="183960" cy="4269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79280" y="836640"/>
            <a:ext cx="87854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94200" y="257040"/>
            <a:ext cx="183960" cy="4273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31920" y="988920"/>
            <a:ext cx="8785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477120"/>
            <a:ext cx="849636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476280"/>
            <a:ext cx="878544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-227520"/>
            <a:ext cx="4419720" cy="13410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-228960" y="6315120"/>
            <a:ext cx="16844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28 Jun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1142640" y="6462720"/>
            <a:ext cx="746748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r>
              <a:rPr b="1" lang="en-GB" sz="1400" spc="-1" strike="noStrike">
                <a:solidFill>
                  <a:srgbClr val="000000"/>
                </a:solidFill>
                <a:latin typeface="Century Schoolbook"/>
              </a:rPr>
              <a:t>ATLAS SCT/Pixel TIM FDR/PRR  Martin Postranecky: COSTS ESTIM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720280" y="6343560"/>
            <a:ext cx="315720" cy="38592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 txBox="1"/>
          <p:nvPr/>
        </p:nvSpPr>
        <p:spPr>
          <a:xfrm>
            <a:off x="8310600" y="6561000"/>
            <a:ext cx="390600" cy="13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5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cc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EP</a:t>
            </a:r>
            <a:endParaRPr b="1" lang="en-US" sz="12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33cc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848360" y="6462720"/>
            <a:ext cx="68580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67BB-2DA5-4D8A-A5BB-D7240E798A61}" type="slidenum"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027160" y="4653000"/>
            <a:ext cx="4891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entury Schoolbook"/>
              </a:rPr>
              <a:t>ATLAS  SCT/Pixel  TIM  FDR/P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entury Schoolbook"/>
              </a:rPr>
              <a:t>28 June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5840" y="2443320"/>
            <a:ext cx="3746520" cy="8535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ysics &amp; Astronomy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EP Electr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189000"/>
            <a:ext cx="16570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5680440"/>
            <a:ext cx="6912000" cy="4597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Lane, Martin Postranecky, Matthew War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6381720"/>
            <a:ext cx="9036000" cy="47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3573360"/>
            <a:ext cx="79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COSTS  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80000" y="620640"/>
            <a:ext cx="1420560" cy="172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BE19-F4D9-4383-A4E9-DDE205F18F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1066680"/>
            <a:ext cx="4267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IM-3 ( PC3216M ) PARTS COS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 Black"/>
              </a:rPr>
              <a:t>FOR 20x MODULE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ORDERED AND MADE    </a:t>
            </a:r>
            <a:r>
              <a:rPr b="0" lang="en-US" sz="2400" spc="-1" strike="noStrike">
                <a:solidFill>
                  <a:srgbClr val="ff5050"/>
                </a:solidFill>
                <a:latin typeface="Arial Black"/>
              </a:rPr>
              <a:t>AT THE SAME TIME</a:t>
            </a:r>
            <a:br>
              <a:rPr sz="2400"/>
            </a:br>
            <a:r>
              <a:rPr b="0" lang="en-US" sz="2400" spc="-1" strike="noStrike">
                <a:solidFill>
                  <a:srgbClr val="ff505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ASED ON 2003 PRICES AS QUOTED FOR THE 20x SCT &amp; PIXEL TIM-3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808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25160" indent="-425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Cs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£   541-65 + 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iscrete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£   377-39 + VAT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CB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£ 1800-00 + 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THE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£   150-00 + 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AutoNum type="alphaU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5050"/>
                </a:solidFill>
                <a:uFillTx/>
                <a:latin typeface="Arial Black"/>
              </a:rPr>
              <a:t>GRAND TOTAL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5050"/>
                </a:solidFill>
                <a:latin typeface="Arial Black"/>
              </a:rPr>
              <a:t>	</a:t>
            </a:r>
            <a:r>
              <a:rPr b="0" i="1" lang="en-US" sz="2400" spc="-1" strike="noStrike">
                <a:solidFill>
                  <a:srgbClr val="ff5050"/>
                </a:solidFill>
                <a:latin typeface="Arial Black"/>
              </a:rPr>
              <a:t>	</a:t>
            </a:r>
            <a:r>
              <a:rPr b="0" i="1" lang="en-US" sz="2400" spc="-1" strike="noStrike">
                <a:solidFill>
                  <a:srgbClr val="ff5050"/>
                </a:solidFill>
                <a:latin typeface="Arial Black"/>
              </a:rPr>
              <a:t>  </a:t>
            </a:r>
            <a:r>
              <a:rPr b="0" i="1" lang="en-US" sz="2400" spc="-1" strike="noStrike" u="sng">
                <a:solidFill>
                  <a:srgbClr val="ff5050"/>
                </a:solidFill>
                <a:uFillTx/>
                <a:latin typeface="Arial Black"/>
              </a:rPr>
              <a:t>£ 2869.04 + VAT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36240" y="168120"/>
            <a:ext cx="4249800" cy="5493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 Black"/>
              </a:rPr>
              <a:t>COST OF TIM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2DBA-96C4-4AC2-8AF1-33C7B4E200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008000"/>
            <a:ext cx="7391520" cy="52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TIM-3 ( PC3216M ) PARTS COST</a:t>
            </a:r>
            <a:r>
              <a:rPr b="1" i="1" lang="en-GB" sz="12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FOR 20x MODULES ORDERED AND MADE AT THE SAME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( BASED ON 2003 PRICES AS QUOTED FOR THE 20x SCT &amp; PIXEL TIM-3s )</a:t>
            </a:r>
            <a:br>
              <a:rPr sz="1400"/>
            </a:br>
            <a:br>
              <a:rPr sz="1200"/>
            </a:br>
            <a:r>
              <a:rPr b="0" i="1" lang="en-GB" sz="12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A)</a:t>
            </a:r>
            <a:r>
              <a:rPr b="0" i="1" lang="en-GB" sz="12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	</a:t>
            </a:r>
            <a:r>
              <a:rPr b="0" i="1" lang="en-GB" sz="12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ICs</a:t>
            </a:r>
            <a:br>
              <a:rPr sz="12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DU-16F ( Delay lines ), sm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4-2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171-00 + VAT</a:t>
            </a:r>
            <a:br>
              <a:rPr sz="1000"/>
            </a:br>
            <a:r>
              <a:rPr b="1" lang="pt-P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pt-P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P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Xilinx 2S200E-6FG456C ( FPGA-1 ), smd</a:t>
            </a:r>
            <a:r>
              <a:rPr b="1" lang="pt-P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P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2-43</a:t>
            </a:r>
            <a:r>
              <a:rPr b="1" lang="pt-P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P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22-43</a:t>
            </a:r>
            <a:br>
              <a:rPr sz="1000"/>
            </a:br>
            <a:r>
              <a:rPr b="1" lang="pt-P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pt-P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P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Xilinx 2S600E-7FG456C ( FPGA-2 ), smd</a:t>
            </a:r>
            <a:r>
              <a:rPr b="1" lang="pt-P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P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87-61</a:t>
            </a:r>
            <a:r>
              <a:rPr b="1" lang="pt-P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P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87-61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Xilinx XC18V02PC44C ( PROM-1 ), sm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2-89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12-89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Xilinx XC18V04PC44C ( PROM-2 ), sm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7-3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17-3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raco ( dc/dc module )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70-0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70-00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P3963ES-1.8 ( dc/dc module ), smd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-40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2-40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Y100E111JC ( clock driver ), smd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0-00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20-00</a:t>
            </a:r>
            <a:br>
              <a:rPr sz="1000"/>
            </a:b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80.16 MHz ( X-tal oscillator ), dil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-00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6-00</a:t>
            </a:r>
            <a:br>
              <a:rPr sz="1000"/>
            </a:b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G8640AN ( prog. oscillator ), dil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-90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13-80</a:t>
            </a:r>
            <a:br>
              <a:rPr sz="1000"/>
            </a:b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CS581-02 ( Clk. multiplexer ), smd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-15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6-30</a:t>
            </a:r>
            <a:br>
              <a:rPr sz="1000"/>
            </a:b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C100ELT21D ( PECL -&gt; TTL ), smd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-00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3-00</a:t>
            </a:r>
            <a:br>
              <a:rPr sz="1000"/>
            </a:b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C100ELT20D ( TTL -&gt; PECL ), smd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-00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3-00</a:t>
            </a:r>
            <a:br>
              <a:rPr sz="1000"/>
            </a:b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C10H124FN ( TTL -&gt; ECL ), sm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-2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16-25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C10H125FN ( ECL -&gt; TTL ), sm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-2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16-25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C10192FN ( ECL -&gt; NIM ), sm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5-0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25-0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74LVT16244BDL ( LV buffer ), sm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.5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4-4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74LVT244AD ( LV buffer ), sm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-47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1-88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74ALVC164245DL (V/LV tranceivers),sm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-2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2-4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50A10500 ( Delay Line ), dil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4-4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4-4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8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74ABTxxx, sm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-0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18-0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74Fxxx, sm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-5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2-5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74LSxxx, dil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-84 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0-84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4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74Fxxx, dil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-0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14-0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-----------------------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0" lang="en-GB" sz="10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£ 541-65 + V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5840" y="168120"/>
            <a:ext cx="4376880" cy="5493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 Black"/>
              </a:rPr>
              <a:t>COST OF TIM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595C-C7BB-41B4-8295-BF2758DF5E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82720" y="763200"/>
            <a:ext cx="6584760" cy="56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	</a:t>
            </a:r>
            <a:r>
              <a:rPr b="0" i="1" lang="en-GB" sz="12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B)</a:t>
            </a:r>
            <a:r>
              <a:rPr b="0" i="1" lang="en-GB" sz="12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	</a:t>
            </a:r>
            <a:r>
              <a:rPr b="0" i="1" lang="en-GB" sz="12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Discrete components + hardware</a:t>
            </a:r>
            <a:br>
              <a:rPr sz="12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ransistor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-1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1-2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6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ors, sm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-0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18-0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16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ors, sm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.0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11-0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5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4-pack resistors, sm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-1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7-5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8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ED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-0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76-0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use + Holder, sm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-0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5-0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5-row/160-pin HAR-BUS 64x connector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2-69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38-07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8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arwin Pin header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-04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3-2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EMO connector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5-2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78-75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DO connector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8-0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8-0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connector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-0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24-0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ciDip SIL connector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-0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4-2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8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P socket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-33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60-0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ush-button switch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-5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3-0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-way switch, sm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-6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6-4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otary switch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4-7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23-5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andle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-66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5-32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ont panel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4-2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4-25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---------------------</a:t>
            </a:r>
            <a:br>
              <a:rPr sz="800"/>
            </a:br>
            <a:r>
              <a:rPr b="1" i="1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r>
              <a:rPr b="0" lang="en-GB" sz="10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£   377-39 + V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	</a:t>
            </a:r>
            <a:r>
              <a:rPr b="0" i="1" lang="en-GB" sz="12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C</a:t>
            </a:r>
            <a:r>
              <a:rPr b="0" i="1" lang="en-GB" sz="12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	</a:t>
            </a:r>
            <a:r>
              <a:rPr b="0" i="1" lang="en-GB" sz="12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PCB</a:t>
            </a:r>
            <a:br>
              <a:rPr sz="12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factur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150-0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ssembly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650-0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---------------------</a:t>
            </a:r>
            <a:br>
              <a:rPr sz="10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r>
              <a:rPr b="0" lang="en-GB" sz="10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£  1800-00 + V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	</a:t>
            </a:r>
            <a:r>
              <a:rPr b="0" i="1" lang="en-GB" sz="12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D</a:t>
            </a:r>
            <a:r>
              <a:rPr b="0" i="1" lang="en-GB" sz="12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	</a:t>
            </a:r>
            <a:r>
              <a:rPr b="0" i="1" lang="en-GB" sz="12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OTHER</a:t>
            </a:r>
            <a:br>
              <a:rPr sz="12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/panel manufactur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50-0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oundary scan testing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100-0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---------------------</a:t>
            </a:r>
            <a:br>
              <a:rPr sz="10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0" lang="en-GB" sz="10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£   150-00 + V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GB" sz="10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GRAND TOTAL :   £ 2869.04 + VAT</a:t>
            </a:r>
            <a:br>
              <a:rPr sz="1000"/>
            </a:b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+10% contingency    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£3156 + VAT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+20% contingency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£ 3443  + V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24000" y="168120"/>
            <a:ext cx="4262400" cy="5493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 Black"/>
              </a:rPr>
              <a:t>COST OF TIM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4326-443B-4EBE-9ED1-7F4C97ED3F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7:31:16Z</dcterms:created>
  <dc:creator>mp</dc:creator>
  <dc:description/>
  <dc:language>en-US</dc:language>
  <cp:lastModifiedBy>mp</cp:lastModifiedBy>
  <dcterms:modified xsi:type="dcterms:W3CDTF">2004-06-22T09:02:58Z</dcterms:modified>
  <cp:revision>13</cp:revision>
  <dc:subject/>
  <dc:title>Slide 1</dc:title>
</cp:coreProperties>
</file>