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577-CE4B-471E-B82E-B96ACCDA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95F-7C2E-471D-B061-2C1AE0B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250-EF72-4145-9512-52C74121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805-4066-475F-8388-124CE6E8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7B0-05F8-44F5-97B6-EC821104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EBF-15CE-483F-9A39-2436189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ABB-DE2F-4BA1-8561-A549377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5ED-7787-41D7-B951-A50A828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4920" y="-229680"/>
            <a:ext cx="707868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679-6EB7-4AF1-9A60-82AEE8F7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237-B729-4B77-BE06-04BFC2C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802-F539-438D-9361-4E819D4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C07-4263-4012-924C-2A396B1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840" y="6554160"/>
            <a:ext cx="938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550600" y="6522120"/>
            <a:ext cx="2460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 TIM FDR/P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84720" y="6487920"/>
            <a:ext cx="935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6F25-0C30-4704-8970-595CBD31642A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73280" y="4653000"/>
            <a:ext cx="3792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entury Schoolbook"/>
              </a:rPr>
              <a:t>ATLAS SCT TIM FDR/P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5480" y="2564640"/>
            <a:ext cx="3746520" cy="61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Physics &amp; Astronom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620640"/>
          <a:ext cx="142056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620640"/>
                    <a:ext cx="14205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725440"/>
            <a:ext cx="691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John Lane, Martin Postranecky, Matthew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IM Interfaces to ROD Crat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9D2-9E7B-472D-964D-7017987084C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707868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C9B-E0B9-4C8D-AF4F-B49DCBF115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p</cp:lastModifiedBy>
  <cp:lastPrinted>2003-09-22T10:12:27Z</cp:lastPrinted>
  <dcterms:modified xsi:type="dcterms:W3CDTF">2004-06-19T14:09:26Z</dcterms:modified>
  <cp:revision>95</cp:revision>
  <dc:subject/>
  <dc:title>C+C for the SCT</dc:title>
</cp:coreProperties>
</file>