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292D-B7C7-4848-A5FB-66D8F6095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4920" y="-229680"/>
            <a:ext cx="7078680" cy="10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79280" y="3732840"/>
            <a:ext cx="8785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6A6B-2ECB-47B5-8BB3-9E7BA3BD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-229680"/>
            <a:ext cx="7078680" cy="10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144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9280" y="373284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1440" y="373284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5C0B-19D2-431D-86C2-418AD4881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94920" y="-229680"/>
            <a:ext cx="7078680" cy="10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49640" y="83628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20000" y="83628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79280" y="373284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49640" y="373284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20000" y="373284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9D0D-05F0-4683-AD0C-921E5F42D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4920" y="-229680"/>
            <a:ext cx="7078680" cy="10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79280" y="836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8B0A-D14D-475F-A14B-AD1F6D21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-229680"/>
            <a:ext cx="7078680" cy="10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8D8E-F652-47B0-B785-6BC9BE58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-229680"/>
            <a:ext cx="7078680" cy="10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42872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280"/>
            <a:ext cx="42872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0A05-5B9C-41C0-84F3-8E7367A0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4920" y="-229680"/>
            <a:ext cx="7078680" cy="10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8BF3-A704-4F9B-B3CA-989BDEAE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94920" y="-229680"/>
            <a:ext cx="7078680" cy="50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7215-5C38-43D5-9B15-63FC1D41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4920" y="-229680"/>
            <a:ext cx="7078680" cy="10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440" y="836280"/>
            <a:ext cx="42872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79280" y="373284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0750-4490-4B4A-B4F2-E62DF5FA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4920" y="-229680"/>
            <a:ext cx="7078680" cy="10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42872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1440" y="373284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8069-92D9-4777-BBF4-139B1E58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4920" y="-229680"/>
            <a:ext cx="7078680" cy="10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9280" y="3732840"/>
            <a:ext cx="8785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FFDF-975F-4D4E-B032-42C9723F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79280" y="6485040"/>
            <a:ext cx="8496360" cy="0"/>
          </a:xfrm>
          <a:prstGeom prst="line">
            <a:avLst/>
          </a:prstGeom>
          <a:ln w="44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79280" y="476280"/>
            <a:ext cx="8785440" cy="0"/>
          </a:xfrm>
          <a:prstGeom prst="line">
            <a:avLst/>
          </a:prstGeom>
          <a:ln w="44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94920" y="-229680"/>
            <a:ext cx="7078680" cy="109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Century Schoolbook"/>
              </a:rPr>
              <a:t>Click to edit the title text format</a:t>
            </a: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177840" y="6554160"/>
            <a:ext cx="9381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28 June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2550600" y="6522120"/>
            <a:ext cx="2460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entury Schoolbook"/>
              </a:rPr>
              <a:t>ATLAS SCT TIM FDR/P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084720" y="6487920"/>
            <a:ext cx="93528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20CB-1888-42A0-B621-DF4353EB3F23}" type="slidenum"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8720280" y="6343560"/>
            <a:ext cx="315720" cy="3859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 txBox="1"/>
          <p:nvPr/>
        </p:nvSpPr>
        <p:spPr>
          <a:xfrm>
            <a:off x="8310600" y="6561000"/>
            <a:ext cx="390600" cy="13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54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HEP</a:t>
            </a:r>
            <a:endParaRPr b="1" lang="en-US" sz="12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179280" y="836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"/>
          <p:cNvSpPr/>
          <p:nvPr/>
        </p:nvSpPr>
        <p:spPr>
          <a:xfrm>
            <a:off x="179280" y="6742080"/>
            <a:ext cx="885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73280" y="4653000"/>
            <a:ext cx="3792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Century Schoolbook"/>
              </a:rPr>
              <a:t>ATLAS SCT TIM FDR/P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Century Schoolbook"/>
              </a:rPr>
              <a:t>28 Jun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25480" y="2564640"/>
            <a:ext cx="3746520" cy="61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entury Schoolbook"/>
              </a:rPr>
              <a:t>Physics &amp; Astronomy</a:t>
            </a:r>
            <a:br>
              <a:rPr sz="2000"/>
            </a:br>
            <a:r>
              <a:rPr b="1" lang="en-GB" sz="2000" spc="-1" strike="noStrike">
                <a:solidFill>
                  <a:srgbClr val="3333cc"/>
                </a:solidFill>
                <a:latin typeface="Century Schoolbook"/>
              </a:rPr>
              <a:t>HEP Electronics</a:t>
            </a:r>
            <a:endParaRPr b="1" i="1" lang="en-US" sz="2000" spc="-1" strike="noStrike">
              <a:solidFill>
                <a:srgbClr val="3333cc"/>
              </a:solidFill>
              <a:latin typeface="Century Schoolbook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780000" y="620640"/>
          <a:ext cx="1420560" cy="17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620640"/>
                    <a:ext cx="142056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7236000" y="189000"/>
            <a:ext cx="16570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42920" y="5725440"/>
            <a:ext cx="691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3333cc"/>
                </a:solidFill>
                <a:latin typeface="Century Schoolbook"/>
              </a:rPr>
              <a:t>John Lane, Martin Postranecky, Matthew War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44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8000" y="6381720"/>
            <a:ext cx="903600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3573360"/>
            <a:ext cx="792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Schoolbook"/>
              </a:rPr>
              <a:t>TIM Interfaces to ROD Crate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igger Board CDR - Matthew Warren  UC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854B-640C-4294-8954-40E2F2BCC65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Oct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44280"/>
            <a:ext cx="70786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igger Board CDR - Matthew Warren  UC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4F29-B410-4530-8A24-F353BFE8414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Oct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09:44:13Z</dcterms:created>
  <dc:creator>Matthew Warren</dc:creator>
  <dc:description/>
  <dc:language>en-US</dc:language>
  <cp:lastModifiedBy>Matthew Warren</cp:lastModifiedBy>
  <cp:lastPrinted>2003-09-22T10:12:27Z</cp:lastPrinted>
  <dcterms:modified xsi:type="dcterms:W3CDTF">2004-06-17T17:40:30Z</dcterms:modified>
  <cp:revision>94</cp:revision>
  <dc:subject/>
  <dc:title>C+C for the SCT</dc:title>
</cp:coreProperties>
</file>