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B24-6F6C-4079-9F61-B702D93B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317-74E4-4F39-90E0-782E5352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4F2-727B-4414-980E-2D750F1A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02A-D46E-4E15-AC9C-BF67D6BB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B2CB-A744-46FB-8C97-5C031EB3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D10-A717-410D-B640-3AE5614D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A3F-BE78-4C88-82EC-C721E7E9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974-F9A5-4E28-B131-2BBB7920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2B4-9FDE-42CA-8863-5449C5AD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9B5-5763-4784-AD37-ED95FB3F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904-AE8B-4296-BAB4-69305A03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5AE-BC3F-49B3-8331-4AC793A0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7320" indent="-3373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160" indent="-280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500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572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24640" indent="-2235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24640" indent="-2235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24640" indent="-2235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3B98BB8-46C1-4864-9887-AA6A9B83B91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IM tests with ROD C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520" y="4365720"/>
            <a:ext cx="6408720" cy="576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hn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13240" y="5229360"/>
            <a:ext cx="2838240" cy="62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7AD-4586-4FF9-806F-3F446BE1F41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OD BU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e registers on TIM related to ROD BUS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OD BUSY – bit only set when BUSY 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OD Latch – latches bit if BUSY present since cl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OD Monitor – latches bit if BUSY present for some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st by resetting the ROD – this creates a busy signal for several seconds (there is no way to get the ROD to generate a BUSY by e.g. setting a register). Monitor the above registers at 100msec interv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nd that behave as expected – ROD BUSY only on when ROD BUSY set, other two registers la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16 ROD slots tested – correct bit set on each occasion (and the correct front panel LED on the TIM comes on). Necessary because the ROD BUSY line from each slot is on a separate backplan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D BUSY appears to be handled correctly by the T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FAA-1D7D-4A68-B5D8-F8F2073ECB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mple the clock as supplied by TIM on the B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a full (16 RODs+BOCs) crate – hopefully the worst case scen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eck the clock when the system is not running (apart from general transmission of clocks around the modules!)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hen data is being read from the 3 modules using triggers from the TIM, in the same way as for the TTC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 for jitter on the clock as seen by the BOC a significant distance downstream of the scope trigger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D+BOC doing the readout are in slot 21 to maximise distance from TIM (again worst-case?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6DB-3618-47D8-A956-8AFE84B35F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0160" y="620640"/>
            <a:ext cx="4681440" cy="351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24520" y="620640"/>
            <a:ext cx="4681440" cy="351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1023840" y="4365720"/>
            <a:ext cx="291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itter on clock on BOC in slot 2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 data t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03920" y="4365720"/>
            <a:ext cx="291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itter on clock on BOC in slot 2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ta taking with TIM trig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t 6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D64-FE66-414B-9639-9FED6BE3744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23840" y="4365720"/>
            <a:ext cx="291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itter on clock on BOC in slot 20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 data t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03920" y="4365720"/>
            <a:ext cx="291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itter on clock on BOC in slot 20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ta taking in slot 21with 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iggers at 6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0160" y="620640"/>
            <a:ext cx="4681440" cy="351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024520" y="620640"/>
            <a:ext cx="4700520" cy="352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FF0-4A9E-429B-ABF0-50F378D2F5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omplex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 TIM triggers produce the same results as triggers generated internally in the RO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investigate this, do scans using both sorts of triggers and comp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1EF-93CF-4CAE-A9FF-4FAA92AA04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sts indicate that TIM interface to ROD and BOC is working as exp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n use TIM triggers to do calibration runs (necessary for crosstalk stud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enty more things to test, once we have large numbers of modules on barrels and end-ca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9A2-6C40-4242-89C3-8CFBEB105C1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est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out facility at Cambridge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Three detector modules on single pre-series SCT barrel har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Power from SCT prototype LV and HV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eries ROD (Rev E) and BOC (Rev C) (transition card housing all incoming and outgoing fibre connections) with opto-plugins connected to harness fibre ribb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TIM-3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CCT VP110 as SBC (current ATLAS standard CP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DAQ is SCTRODDAQ, developed for Macro-Assembly, but using ATLAS T/DAQ components where possible – and so hopefully the basis of the SCT ROD Crate DA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0">
              <a:spcBef>
                <a:spcPts val="499"/>
              </a:spcBef>
              <a:buNone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rpose of tests are to confirm that TIM interface to ROD and BOC is working cor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17C-EFFD-4C8F-BDB4-7AF1635EBA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745240" y="5157720"/>
            <a:ext cx="1008000" cy="358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odul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97600" y="5157720"/>
            <a:ext cx="1008000" cy="358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odul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92520" y="5157720"/>
            <a:ext cx="1008360" cy="358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odul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240" y="476280"/>
            <a:ext cx="4753080" cy="3816360"/>
          </a:xfrm>
          <a:custGeom>
            <a:avLst/>
            <a:gdLst/>
            <a:ahLst/>
            <a:rect l="l" t="t" r="r" b="b"/>
            <a:pathLst>
              <a:path w="2637" h="2555">
                <a:moveTo>
                  <a:pt x="846" y="287"/>
                </a:moveTo>
                <a:cubicBezTo>
                  <a:pt x="1741" y="143"/>
                  <a:pt x="2637" y="0"/>
                  <a:pt x="2524" y="287"/>
                </a:cubicBezTo>
                <a:cubicBezTo>
                  <a:pt x="2411" y="574"/>
                  <a:pt x="332" y="1633"/>
                  <a:pt x="166" y="2011"/>
                </a:cubicBezTo>
                <a:cubicBezTo>
                  <a:pt x="0" y="2389"/>
                  <a:pt x="763" y="2472"/>
                  <a:pt x="1526" y="25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21240" y="4292640"/>
            <a:ext cx="1511280" cy="73080"/>
          </a:xfrm>
          <a:custGeom>
            <a:avLst/>
            <a:gdLst/>
            <a:ahLst/>
            <a:rect l="l" t="t" r="r" b="b"/>
            <a:pathLst>
              <a:path w="952" h="46">
                <a:moveTo>
                  <a:pt x="0" y="0"/>
                </a:moveTo>
                <a:cubicBezTo>
                  <a:pt x="0" y="0"/>
                  <a:pt x="476" y="23"/>
                  <a:pt x="952" y="4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21240" y="4292640"/>
            <a:ext cx="792000" cy="865080"/>
          </a:xfrm>
          <a:custGeom>
            <a:avLst/>
            <a:gdLst/>
            <a:ahLst/>
            <a:rect l="l" t="t" r="r" b="b"/>
            <a:pathLst>
              <a:path w="499" h="545">
                <a:moveTo>
                  <a:pt x="0" y="0"/>
                </a:moveTo>
                <a:cubicBezTo>
                  <a:pt x="162" y="45"/>
                  <a:pt x="325" y="91"/>
                  <a:pt x="408" y="182"/>
                </a:cubicBezTo>
                <a:cubicBezTo>
                  <a:pt x="491" y="273"/>
                  <a:pt x="495" y="409"/>
                  <a:pt x="499" y="5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32520" y="4365720"/>
            <a:ext cx="504720" cy="792000"/>
          </a:xfrm>
          <a:custGeom>
            <a:avLst/>
            <a:gdLst/>
            <a:ahLst/>
            <a:rect l="l" t="t" r="r" b="b"/>
            <a:pathLst>
              <a:path w="318" h="499">
                <a:moveTo>
                  <a:pt x="0" y="0"/>
                </a:moveTo>
                <a:cubicBezTo>
                  <a:pt x="87" y="26"/>
                  <a:pt x="174" y="53"/>
                  <a:pt x="227" y="136"/>
                </a:cubicBezTo>
                <a:cubicBezTo>
                  <a:pt x="280" y="219"/>
                  <a:pt x="303" y="439"/>
                  <a:pt x="318" y="49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32520" y="4365720"/>
            <a:ext cx="1297080" cy="71280"/>
          </a:xfrm>
          <a:custGeom>
            <a:avLst/>
            <a:gdLst/>
            <a:ahLst/>
            <a:rect l="l" t="t" r="r" b="b"/>
            <a:pathLst>
              <a:path w="817" h="45">
                <a:moveTo>
                  <a:pt x="0" y="0"/>
                </a:moveTo>
                <a:cubicBezTo>
                  <a:pt x="340" y="19"/>
                  <a:pt x="681" y="38"/>
                  <a:pt x="817" y="45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29600" y="4437000"/>
            <a:ext cx="360360" cy="720720"/>
          </a:xfrm>
          <a:custGeom>
            <a:avLst/>
            <a:gdLst/>
            <a:ahLst/>
            <a:rect l="l" t="t" r="r" b="b"/>
            <a:pathLst>
              <a:path w="227" h="454">
                <a:moveTo>
                  <a:pt x="0" y="0"/>
                </a:moveTo>
                <a:cubicBezTo>
                  <a:pt x="71" y="30"/>
                  <a:pt x="143" y="61"/>
                  <a:pt x="181" y="136"/>
                </a:cubicBezTo>
                <a:cubicBezTo>
                  <a:pt x="219" y="211"/>
                  <a:pt x="223" y="332"/>
                  <a:pt x="227" y="45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01960" y="1341360"/>
            <a:ext cx="149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6-way fibre rib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(Clock and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81240" y="2133720"/>
            <a:ext cx="4392360" cy="2590560"/>
          </a:xfrm>
          <a:custGeom>
            <a:avLst/>
            <a:gdLst/>
            <a:ahLst/>
            <a:rect l="l" t="t" r="r" b="b"/>
            <a:pathLst>
              <a:path w="3190" h="1632">
                <a:moveTo>
                  <a:pt x="1504" y="0"/>
                </a:moveTo>
                <a:cubicBezTo>
                  <a:pt x="2347" y="22"/>
                  <a:pt x="3190" y="45"/>
                  <a:pt x="2956" y="272"/>
                </a:cubicBezTo>
                <a:cubicBezTo>
                  <a:pt x="2722" y="499"/>
                  <a:pt x="196" y="1133"/>
                  <a:pt x="98" y="1360"/>
                </a:cubicBezTo>
                <a:cubicBezTo>
                  <a:pt x="0" y="1587"/>
                  <a:pt x="1988" y="1587"/>
                  <a:pt x="2366" y="1632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21240" y="4724280"/>
            <a:ext cx="1511280" cy="73080"/>
          </a:xfrm>
          <a:custGeom>
            <a:avLst/>
            <a:gdLst/>
            <a:ahLst/>
            <a:rect l="l" t="t" r="r" b="b"/>
            <a:pathLst>
              <a:path w="952" h="46">
                <a:moveTo>
                  <a:pt x="0" y="0"/>
                </a:moveTo>
                <a:cubicBezTo>
                  <a:pt x="0" y="0"/>
                  <a:pt x="476" y="23"/>
                  <a:pt x="952" y="46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21240" y="4724280"/>
            <a:ext cx="360360" cy="43344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32520" y="4797360"/>
            <a:ext cx="1297080" cy="71640"/>
          </a:xfrm>
          <a:custGeom>
            <a:avLst/>
            <a:gdLst/>
            <a:ahLst/>
            <a:rect l="l" t="t" r="r" b="b"/>
            <a:pathLst>
              <a:path w="817" h="45">
                <a:moveTo>
                  <a:pt x="0" y="0"/>
                </a:moveTo>
                <a:cubicBezTo>
                  <a:pt x="340" y="19"/>
                  <a:pt x="681" y="38"/>
                  <a:pt x="817" y="4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61240" y="4797360"/>
            <a:ext cx="431640" cy="36036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61240" y="4797360"/>
            <a:ext cx="360360" cy="36036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29600" y="4869000"/>
            <a:ext cx="144360" cy="28872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29600" y="4869000"/>
            <a:ext cx="215640" cy="28872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92520" y="4724280"/>
            <a:ext cx="360360" cy="43344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62320" y="4653000"/>
            <a:ext cx="147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12-way fibre rib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(D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08880" y="836640"/>
            <a:ext cx="9367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V/H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40880" y="1700280"/>
            <a:ext cx="0" cy="1152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985240" y="1700280"/>
            <a:ext cx="0" cy="1152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29600" y="1700280"/>
            <a:ext cx="0" cy="1152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553600" y="2852640"/>
            <a:ext cx="64908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97600" y="1986120"/>
            <a:ext cx="1532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17600" y="2060640"/>
            <a:ext cx="105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Conv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C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84880" y="3789360"/>
            <a:ext cx="2125800" cy="2328840"/>
          </a:xfrm>
          <a:custGeom>
            <a:avLst/>
            <a:gdLst/>
            <a:ahLst/>
            <a:rect l="l" t="t" r="r" b="b"/>
            <a:pathLst>
              <a:path w="1339" h="1467">
                <a:moveTo>
                  <a:pt x="1134" y="0"/>
                </a:moveTo>
                <a:cubicBezTo>
                  <a:pt x="1236" y="491"/>
                  <a:pt x="1339" y="983"/>
                  <a:pt x="1316" y="1225"/>
                </a:cubicBezTo>
                <a:cubicBezTo>
                  <a:pt x="1293" y="1467"/>
                  <a:pt x="1187" y="1444"/>
                  <a:pt x="998" y="1451"/>
                </a:cubicBezTo>
                <a:cubicBezTo>
                  <a:pt x="809" y="1458"/>
                  <a:pt x="348" y="1331"/>
                  <a:pt x="182" y="1270"/>
                </a:cubicBezTo>
                <a:cubicBezTo>
                  <a:pt x="16" y="1209"/>
                  <a:pt x="8" y="1148"/>
                  <a:pt x="0" y="1088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32520" y="3789360"/>
            <a:ext cx="3432240" cy="2436840"/>
          </a:xfrm>
          <a:custGeom>
            <a:avLst/>
            <a:gdLst/>
            <a:ahLst/>
            <a:rect l="l" t="t" r="r" b="b"/>
            <a:pathLst>
              <a:path w="2162" h="1535">
                <a:moveTo>
                  <a:pt x="1905" y="0"/>
                </a:moveTo>
                <a:cubicBezTo>
                  <a:pt x="2022" y="465"/>
                  <a:pt x="2139" y="930"/>
                  <a:pt x="2132" y="1179"/>
                </a:cubicBezTo>
                <a:cubicBezTo>
                  <a:pt x="2125" y="1428"/>
                  <a:pt x="2162" y="1459"/>
                  <a:pt x="1860" y="1497"/>
                </a:cubicBezTo>
                <a:cubicBezTo>
                  <a:pt x="1558" y="1535"/>
                  <a:pt x="628" y="1474"/>
                  <a:pt x="318" y="1406"/>
                </a:cubicBezTo>
                <a:cubicBezTo>
                  <a:pt x="8" y="1338"/>
                  <a:pt x="4" y="1213"/>
                  <a:pt x="0" y="1088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73600" y="3789360"/>
            <a:ext cx="4883040" cy="2543040"/>
          </a:xfrm>
          <a:custGeom>
            <a:avLst/>
            <a:gdLst/>
            <a:ahLst/>
            <a:rect l="l" t="t" r="r" b="b"/>
            <a:pathLst>
              <a:path w="3076" h="1602">
                <a:moveTo>
                  <a:pt x="2744" y="0"/>
                </a:moveTo>
                <a:cubicBezTo>
                  <a:pt x="2842" y="397"/>
                  <a:pt x="2941" y="794"/>
                  <a:pt x="2971" y="1043"/>
                </a:cubicBezTo>
                <a:cubicBezTo>
                  <a:pt x="3001" y="1292"/>
                  <a:pt x="3076" y="1406"/>
                  <a:pt x="2925" y="1497"/>
                </a:cubicBezTo>
                <a:cubicBezTo>
                  <a:pt x="2774" y="1588"/>
                  <a:pt x="2494" y="1602"/>
                  <a:pt x="2063" y="1587"/>
                </a:cubicBezTo>
                <a:cubicBezTo>
                  <a:pt x="1632" y="1572"/>
                  <a:pt x="680" y="1489"/>
                  <a:pt x="340" y="1406"/>
                </a:cubicBezTo>
                <a:cubicBezTo>
                  <a:pt x="0" y="1323"/>
                  <a:pt x="11" y="1205"/>
                  <a:pt x="22" y="1088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4280" y="5516640"/>
            <a:ext cx="84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Low-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Elect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t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0680" y="249228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9U VME64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02320" y="907920"/>
            <a:ext cx="10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6U V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8520" y="5589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chematic of layout for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72880" y="115920"/>
            <a:ext cx="3097440" cy="232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4FD-D9B2-4BE2-90DF-E8497630F6A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imple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confirm that the TIM &lt;=&gt; BOC/ROD interface is working cor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ollowing signals need check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TTC signals from TIM to RODs. Eight signals (L1A,ECReset, BCReset, CAL, Serial ID, Serial TT, FEReset, Spare) are supplied to each R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OD BUSY from each ROD to T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40MHz clock supplied to RODs from TIM. Clock is in fact supplied from TIM to BOC and then redistributed to the R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249-17FE-46A0-964D-B0E27ECA3E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TC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 the TTC signals propagate from TIM to ROD correct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1A (TTC0) must be seen for triggering to occur at 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CR (TTC1) is counted in the top nibble of the L1ID, and synchronises the L1ID in the ROD and Front E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CR (TTC2) is required to synchronise the BC number in the ROD and Front E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ial ID (TTC4) – the ROD will not generate events until this is received, and the data must match that exp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ial TT (TTC5) – events should contain the Trigger Type as generated in the T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ER (TTC6) and spare (TTC7) are not used by ROD – all we can do is look for signals on a sco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L(TTC3) is not used in subsequent test – only employed when want to generate a calibrate pulse for the front e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875-2D1B-490F-9A6F-606D219D55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TC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ckground to this t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etup ROD to accept triggers from TIM (rather than generated internall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etup ROD and BOC in data-taking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etup TIM to generate triggers with correct BC offset (to allow for propagation time of commands to front end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Generate a BCR to synchronise Bunch Count in ROD and front e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Generate a ECR to synchronise Event Count. This also has effect of incrementing the ECR counter in the ROD (see the L1IDs reported in the following even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Generate eight TIM triggers with Trigger Type changing for each ev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Use “root” interface to SCTRODDAQ (full GUI for TIM triggers is not yet ready for us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097-BB4F-48DD-8CC1-C41EE8E294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 flipV="1">
            <a:off x="2216160" y="765000"/>
            <a:ext cx="79200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6440" y="1413000"/>
            <a:ext cx="347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Loop setting Trigger Type to 1,2,4,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and then generating a single TIM tri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4684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2289240" y="5084640"/>
            <a:ext cx="151128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39800" y="3573360"/>
            <a:ext cx="649440" cy="28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08160" y="4581360"/>
            <a:ext cx="165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First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L1ID=0x1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6880" y="3068640"/>
            <a:ext cx="165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Last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L1ID=0x1000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184880" y="1341360"/>
            <a:ext cx="1152720" cy="35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11360" y="1052640"/>
            <a:ext cx="17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Correct trigger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689960" y="2637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96480" y="234936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Data du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module in “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mask”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50320" y="378936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ECR Coun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431800" y="3573360"/>
            <a:ext cx="57780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52880" y="4076640"/>
            <a:ext cx="720720" cy="86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113240" y="620640"/>
            <a:ext cx="107964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78640" y="33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Decode first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143-E072-4E70-AAF2-8E6DAD73E89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6108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45040" y="0"/>
            <a:ext cx="48610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 flipV="1">
            <a:off x="1065240" y="4005360"/>
            <a:ext cx="1295280" cy="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91760" y="3860640"/>
            <a:ext cx="167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No BCID or L1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072880" y="4581360"/>
            <a:ext cx="107964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84840" y="4508640"/>
            <a:ext cx="118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Decode la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144520" y="5157720"/>
            <a:ext cx="143964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71000" y="5373720"/>
            <a:ext cx="178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Correct trigger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(=2</a:t>
            </a:r>
            <a:r>
              <a:rPr b="0" lang="en-GB" sz="16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E9F-8C45-481F-A06A-791DEBF76C2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1600" cy="12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>
            <a:off x="992160" y="765000"/>
            <a:ext cx="216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83400" y="476280"/>
            <a:ext cx="14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again no BCI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or L1ID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7560" y="2852640"/>
            <a:ext cx="7684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The other events were checked and were as expec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se events indicate that TTC0-2, TTC4-TTC5 are transmitted cor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with the appropriate synchronis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52A-31A3-4F1B-8868-BFFB68A1ED4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4:20:03Z</dcterms:created>
  <dc:creator>hill</dc:creator>
  <dc:description/>
  <dc:language>en-US</dc:language>
  <cp:lastModifiedBy>hill</cp:lastModifiedBy>
  <cp:lastPrinted>2002-12-04T15:16:21Z</cp:lastPrinted>
  <dcterms:modified xsi:type="dcterms:W3CDTF">2004-06-22T16:12:30Z</dcterms:modified>
  <cp:revision>79</cp:revision>
  <dc:subject/>
  <dc:title>ROD Workshop III (Annecy), 14/15 November 2002</dc:title>
</cp:coreProperties>
</file>