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D33-8307-489D-A833-2FECC25C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60E-8DFF-4717-A89B-7869E0E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1A0-7BE8-4D88-9378-443C9804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31A-AF96-405E-8A5B-BDE5BE0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47A-2C58-4695-A674-AF415D5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EAC-9CE2-4B87-A6AB-265E1901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6FE-89F1-4011-A332-7E3188C0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FB3-8250-4DD8-BDA6-6044311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8CF-B5D8-4AB7-B38F-C5DFF66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6E3-6A52-495D-92BD-4CE21B5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162-B3D6-4E0B-8662-EE4E80E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377-E011-4FDF-B5DD-AC64AE7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4640" indent="-223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B38843-096B-44F1-8472-C1EAC60C4EC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IM tests with ROD C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520" y="436572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hn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13240" y="5229360"/>
            <a:ext cx="2838240" cy="62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368-0970-4B29-8022-7B0261A92A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ROD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registers on TIM related to ROD BUS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– bit only set when BUSY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Latch – latches bit if BUSY present since cl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Monitor – latches bit if BUSY present for som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 by resetting the ROD – this creates a busy signal for several seconds (there is no way to get the ROD to generate a BUSY by e.g. setting a register). Monitor the above registers at 100msec inter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that behave as expected – ROD BUSY only on when ROD BUSY set, other two registers lat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16 ROD slots tested – correct bit set on each occasion (and the correct front panel LED on the TIM comes on). Necessary because the ROD BUSY line from each slot is on a separate backplan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D BUSY appears to be handled correctly by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AFF-C13D-4DA4-880E-4BFE181A9C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e the clock as supplied by TIM on the B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a full (16 RODs+BOCs) crate for this test - hopefully the worst case sce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 the clock when the system is not running (apart from general transmission of clocks around the various components!)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n data is being read from the 3 modules using triggers from the TIM, in the same way as for the TTC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for jitter on the clock as seen by the BOC a significant distance (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wnstream of the scope trigger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D+BOC doing the readout are in slot 21 to maximise distance from TIM (again worst-case?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596-754F-4C68-B3BB-99A92979E1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0160" y="620640"/>
            <a:ext cx="4681440" cy="351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24520" y="620640"/>
            <a:ext cx="4681440" cy="351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023840" y="4365720"/>
            <a:ext cx="291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data t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03920" y="436572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taking with TIM tri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 6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360" y="5373720"/>
            <a:ext cx="84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ma of distributions very similar – hint that jitter  is slightly more with triggers ru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0BD-FA50-4AA9-9A2B-2B5D01223A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4365720"/>
            <a:ext cx="291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data t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03920" y="436572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itter on clock on BOC in slot 2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taking in slot 21with 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ggers at 6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0160" y="620640"/>
            <a:ext cx="4681440" cy="35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4520" y="620640"/>
            <a:ext cx="4700520" cy="35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510280" y="530064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gain a slight hint that the right-hand plot is w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811-5523-4B89-A3E4-55029EDA39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number of other tests have been done using triggers from the TIM, but need further work before being present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alibration scans – a couple of these have been tried, but bugs remain in the ROD and DAQ software – changes are very new here and rely on a single expert in each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ata taking via S-link has been demonstrated using TIM triggers (and internally-generated triggers!), but there are known VHDL bugs which corrupt the data when XOFF occurs. S-link is not needed for Macro Assembly, so this has been a lower-priority i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701-CFD8-40F0-A54B-656898E481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s indicate that TIM interface to/from ROD and BOC is working as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hint that triggers from the TIM might be increasing the clock jitter – more tests are required here to check this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sophisticated tests (calibration scans) are needed – these are required for Macro Assembly in any case for crosstalk studies and so will be developed in the near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448-28B3-41C3-9FEB-7D775395D6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s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out facility at Cambridge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hree detector modules on single pre-series SCT barrel har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ower from SCT prototype LV and HV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ries ROD (Rev E) and BOC (Rev C) (transition card housing all incoming and outgoing fibre connections) with opto-plugins connected to harness fibre ribb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IM-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CT VP110 as SBC (current ATLAS standard 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AQ is SCTRODDAQ, developed for Macro-Assembly, but using ATLAS T/DAQ components where possible – and so hopefully the basis of the SCT ROD Crate DA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0">
              <a:spcBef>
                <a:spcPts val="499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rpose of tests are to confirm that TIM interface to ROD and BOC is working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90A-8BA4-4D0D-A7ED-5487E31998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4524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97600" y="5157720"/>
            <a:ext cx="1008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92520" y="5157720"/>
            <a:ext cx="100836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240" y="476280"/>
            <a:ext cx="4753080" cy="3816360"/>
          </a:xfrm>
          <a:custGeom>
            <a:avLst/>
            <a:gdLst/>
            <a:ahLst/>
            <a:rect l="l" t="t" r="r" b="b"/>
            <a:pathLst>
              <a:path w="2637" h="2555">
                <a:moveTo>
                  <a:pt x="846" y="287"/>
                </a:moveTo>
                <a:cubicBezTo>
                  <a:pt x="1741" y="143"/>
                  <a:pt x="2637" y="0"/>
                  <a:pt x="2524" y="287"/>
                </a:cubicBezTo>
                <a:cubicBezTo>
                  <a:pt x="2411" y="574"/>
                  <a:pt x="332" y="1633"/>
                  <a:pt x="166" y="2011"/>
                </a:cubicBezTo>
                <a:cubicBezTo>
                  <a:pt x="0" y="2389"/>
                  <a:pt x="763" y="2472"/>
                  <a:pt x="1526" y="25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1240" y="429264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21240" y="4292640"/>
            <a:ext cx="792000" cy="865080"/>
          </a:xfrm>
          <a:custGeom>
            <a:avLst/>
            <a:gdLst/>
            <a:ahLst/>
            <a:rect l="l" t="t" r="r" b="b"/>
            <a:pathLst>
              <a:path w="499" h="545">
                <a:moveTo>
                  <a:pt x="0" y="0"/>
                </a:moveTo>
                <a:cubicBezTo>
                  <a:pt x="162" y="45"/>
                  <a:pt x="325" y="91"/>
                  <a:pt x="408" y="182"/>
                </a:cubicBezTo>
                <a:cubicBezTo>
                  <a:pt x="491" y="273"/>
                  <a:pt x="495" y="409"/>
                  <a:pt x="499" y="5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2520" y="4365720"/>
            <a:ext cx="504720" cy="792000"/>
          </a:xfrm>
          <a:custGeom>
            <a:avLst/>
            <a:gdLst/>
            <a:ahLst/>
            <a:rect l="l" t="t" r="r" b="b"/>
            <a:pathLst>
              <a:path w="318" h="499">
                <a:moveTo>
                  <a:pt x="0" y="0"/>
                </a:moveTo>
                <a:cubicBezTo>
                  <a:pt x="87" y="26"/>
                  <a:pt x="174" y="53"/>
                  <a:pt x="227" y="136"/>
                </a:cubicBezTo>
                <a:cubicBezTo>
                  <a:pt x="280" y="219"/>
                  <a:pt x="303" y="439"/>
                  <a:pt x="318" y="49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2520" y="4365720"/>
            <a:ext cx="1297080" cy="7128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29600" y="4437000"/>
            <a:ext cx="360360" cy="720720"/>
          </a:xfrm>
          <a:custGeom>
            <a:avLst/>
            <a:gdLst/>
            <a:ahLst/>
            <a:rect l="l" t="t" r="r" b="b"/>
            <a:pathLst>
              <a:path w="227" h="454">
                <a:moveTo>
                  <a:pt x="0" y="0"/>
                </a:moveTo>
                <a:cubicBezTo>
                  <a:pt x="71" y="30"/>
                  <a:pt x="143" y="61"/>
                  <a:pt x="181" y="136"/>
                </a:cubicBezTo>
                <a:cubicBezTo>
                  <a:pt x="219" y="211"/>
                  <a:pt x="223" y="332"/>
                  <a:pt x="227" y="45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1960" y="1341360"/>
            <a:ext cx="149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6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Clock and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1240" y="2133720"/>
            <a:ext cx="4392360" cy="2590560"/>
          </a:xfrm>
          <a:custGeom>
            <a:avLst/>
            <a:gdLst/>
            <a:ahLst/>
            <a:rect l="l" t="t" r="r" b="b"/>
            <a:pathLst>
              <a:path w="3190" h="1632">
                <a:moveTo>
                  <a:pt x="1504" y="0"/>
                </a:moveTo>
                <a:cubicBezTo>
                  <a:pt x="2347" y="22"/>
                  <a:pt x="3190" y="45"/>
                  <a:pt x="2956" y="272"/>
                </a:cubicBezTo>
                <a:cubicBezTo>
                  <a:pt x="2722" y="499"/>
                  <a:pt x="196" y="1133"/>
                  <a:pt x="98" y="1360"/>
                </a:cubicBezTo>
                <a:cubicBezTo>
                  <a:pt x="0" y="1587"/>
                  <a:pt x="1988" y="1587"/>
                  <a:pt x="2366" y="1632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21240" y="4724280"/>
            <a:ext cx="1511280" cy="73080"/>
          </a:xfrm>
          <a:custGeom>
            <a:avLst/>
            <a:gdLst/>
            <a:ahLst/>
            <a:rect l="l" t="t" r="r" b="b"/>
            <a:pathLst>
              <a:path w="952" h="46">
                <a:moveTo>
                  <a:pt x="0" y="0"/>
                </a:moveTo>
                <a:cubicBezTo>
                  <a:pt x="0" y="0"/>
                  <a:pt x="476" y="23"/>
                  <a:pt x="952" y="46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2124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2520" y="4797360"/>
            <a:ext cx="1297080" cy="71640"/>
          </a:xfrm>
          <a:custGeom>
            <a:avLst/>
            <a:gdLst/>
            <a:ahLst/>
            <a:rect l="l" t="t" r="r" b="b"/>
            <a:pathLst>
              <a:path w="817" h="45">
                <a:moveTo>
                  <a:pt x="0" y="0"/>
                </a:moveTo>
                <a:cubicBezTo>
                  <a:pt x="340" y="19"/>
                  <a:pt x="681" y="38"/>
                  <a:pt x="817" y="4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1240" y="4797360"/>
            <a:ext cx="43164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4797360"/>
            <a:ext cx="360360" cy="36036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29600" y="4869000"/>
            <a:ext cx="14436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29600" y="4869000"/>
            <a:ext cx="215640" cy="28872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2520" y="47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3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2320" y="4653000"/>
            <a:ext cx="147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12-way fibre rib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(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08880" y="836640"/>
            <a:ext cx="93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V/H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4088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24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29600" y="1700280"/>
            <a:ext cx="0" cy="1152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53600" y="2852640"/>
            <a:ext cx="64908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7600" y="1986120"/>
            <a:ext cx="153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17600" y="206064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84880" y="3789360"/>
            <a:ext cx="2125800" cy="2328840"/>
          </a:xfrm>
          <a:custGeom>
            <a:avLst/>
            <a:gdLst/>
            <a:ahLst/>
            <a:rect l="l" t="t" r="r" b="b"/>
            <a:pathLst>
              <a:path w="1339" h="1467">
                <a:moveTo>
                  <a:pt x="1134" y="0"/>
                </a:moveTo>
                <a:cubicBezTo>
                  <a:pt x="1236" y="491"/>
                  <a:pt x="1339" y="983"/>
                  <a:pt x="1316" y="1225"/>
                </a:cubicBezTo>
                <a:cubicBezTo>
                  <a:pt x="1293" y="1467"/>
                  <a:pt x="1187" y="1444"/>
                  <a:pt x="998" y="1451"/>
                </a:cubicBezTo>
                <a:cubicBezTo>
                  <a:pt x="809" y="1458"/>
                  <a:pt x="348" y="1331"/>
                  <a:pt x="182" y="1270"/>
                </a:cubicBezTo>
                <a:cubicBezTo>
                  <a:pt x="16" y="1209"/>
                  <a:pt x="8" y="1148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32520" y="3789360"/>
            <a:ext cx="3432240" cy="2436840"/>
          </a:xfrm>
          <a:custGeom>
            <a:avLst/>
            <a:gdLst/>
            <a:ahLst/>
            <a:rect l="l" t="t" r="r" b="b"/>
            <a:pathLst>
              <a:path w="2162" h="1535">
                <a:moveTo>
                  <a:pt x="1905" y="0"/>
                </a:moveTo>
                <a:cubicBezTo>
                  <a:pt x="2022" y="465"/>
                  <a:pt x="2139" y="930"/>
                  <a:pt x="2132" y="1179"/>
                </a:cubicBezTo>
                <a:cubicBezTo>
                  <a:pt x="2125" y="1428"/>
                  <a:pt x="2162" y="1459"/>
                  <a:pt x="1860" y="1497"/>
                </a:cubicBezTo>
                <a:cubicBezTo>
                  <a:pt x="1558" y="1535"/>
                  <a:pt x="628" y="1474"/>
                  <a:pt x="318" y="1406"/>
                </a:cubicBezTo>
                <a:cubicBezTo>
                  <a:pt x="8" y="1338"/>
                  <a:pt x="4" y="1213"/>
                  <a:pt x="0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3600" y="3789360"/>
            <a:ext cx="4883040" cy="2543040"/>
          </a:xfrm>
          <a:custGeom>
            <a:avLst/>
            <a:gdLst/>
            <a:ahLst/>
            <a:rect l="l" t="t" r="r" b="b"/>
            <a:pathLst>
              <a:path w="3076" h="1602">
                <a:moveTo>
                  <a:pt x="2744" y="0"/>
                </a:moveTo>
                <a:cubicBezTo>
                  <a:pt x="2842" y="397"/>
                  <a:pt x="2941" y="794"/>
                  <a:pt x="2971" y="1043"/>
                </a:cubicBezTo>
                <a:cubicBezTo>
                  <a:pt x="3001" y="1292"/>
                  <a:pt x="3076" y="1406"/>
                  <a:pt x="2925" y="1497"/>
                </a:cubicBezTo>
                <a:cubicBezTo>
                  <a:pt x="2774" y="1588"/>
                  <a:pt x="2494" y="1602"/>
                  <a:pt x="2063" y="1587"/>
                </a:cubicBezTo>
                <a:cubicBezTo>
                  <a:pt x="1632" y="1572"/>
                  <a:pt x="680" y="1489"/>
                  <a:pt x="340" y="1406"/>
                </a:cubicBezTo>
                <a:cubicBezTo>
                  <a:pt x="0" y="1323"/>
                  <a:pt x="11" y="1205"/>
                  <a:pt x="22" y="1088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4280" y="5516640"/>
            <a:ext cx="84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Low-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Elect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t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0680" y="24922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9U VME6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02320" y="9079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6U V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520" y="558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hematic of layout for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2880" y="11592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46C-3DA3-4AF6-BCA3-A06EBE46577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impl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basic signals need chec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TC signals from TIM to RODs. Eight signals (L1A,ECReset, BCReset, CAL, Serial ID, Serial TT, FEReset, Spare) are supplied to each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OD BUSY from each ROD to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40MHz clock supplied to RODs from TIM. Clock is in fact supplied from TIM to BOC and then redistributed to the R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7AF-FAC0-4CCB-9B66-0F755B7E2B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the TTC signals propagate from TIM to ROD correc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1A (TTC0) must be seen for triggering to occur at 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R (TTC1) is counted in the top nibble of the L1ID, and synchronises the L1ID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R (TTC2) is required to synchronise the BC number in the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ID (TTC4) – the ROD will not generate events until this is received, and the data must match that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ial TT (TTC5) – events should contain the Trigger Type as generated in the T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R (TTC6) and spare (TTC7) are not used by ROD – all we can do is look for signals on a 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(TTC3) is not used in subsequent test – only employed when want to generate a calibrate pulse for the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B4-542E-4A62-A42C-D93215F999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46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T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4520" y="907920"/>
            <a:ext cx="8420040" cy="511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638280" indent="-6382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ground to this t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to accept triggers from TIM (rather than generated internal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ROD and BOC in data-taking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etup TIM to generate triggers with correct BC offset (to allow for propagation time of commands to front en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BCR to synchronise Bunch Count in ROD and fron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a ECR to synchronise Event Count. This also has effect of incrementing the ECR counter in the ROD (see the L1IDs reported in the following eve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Generate eight TIM triggers with Trigger Type changing for each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55872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Use “root” interface to SCTRODDAQ (full GUI for TIM triggers is not yet ready for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38D-BBBB-4EE3-8035-D792F4162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2216160" y="765000"/>
            <a:ext cx="79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440" y="141300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oop setting Trigger Type to 1,2,4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nd then generating a single TIM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4684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289240" y="5084640"/>
            <a:ext cx="151128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9800" y="3573360"/>
            <a:ext cx="64944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8160" y="458136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6880" y="306864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a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L1ID=0x1000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184880" y="1341360"/>
            <a:ext cx="115272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11360" y="10526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689960" y="26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96480" y="234936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ata du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odule in “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mask”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50320" y="37893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CR Cou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431800" y="3573360"/>
            <a:ext cx="5778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52880" y="4076640"/>
            <a:ext cx="72072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113240" y="620640"/>
            <a:ext cx="1079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78640" y="33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first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F9F-0C4A-41AC-88B6-522E03B963B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10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45040" y="0"/>
            <a:ext cx="48610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1065240" y="4005360"/>
            <a:ext cx="1295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91760" y="3860640"/>
            <a:ext cx="16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No BCID or L1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072880" y="4581360"/>
            <a:ext cx="1079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84840" y="4508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ecode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144520" y="5157720"/>
            <a:ext cx="1439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71000" y="537372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rrect trigger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(=2</a:t>
            </a:r>
            <a:r>
              <a:rPr b="0" lang="en-GB" sz="16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5D6-9144-4B6B-AD92-D0FAAA3B4FE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12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992160" y="765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83400" y="47628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again no BC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or L1ID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7560" y="2852640"/>
            <a:ext cx="768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 other events were checked and were as exp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events indicate that TTC0-2, TTC4-TTC5 are transmitted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with the appropriate synchron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Pixel/SCT TIM FDR/PR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91E-E933-4665-B489-BE655BE0DFB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4:20:03Z</dcterms:created>
  <dc:creator>hill</dc:creator>
  <dc:description/>
  <dc:language>en-US</dc:language>
  <cp:lastModifiedBy>hill</cp:lastModifiedBy>
  <cp:lastPrinted>2002-12-04T15:16:21Z</cp:lastPrinted>
  <dcterms:modified xsi:type="dcterms:W3CDTF">2004-06-23T14:48:34Z</dcterms:modified>
  <cp:revision>84</cp:revision>
  <dc:subject/>
  <dc:title>ROD Workshop III (Annecy), 14/15 November 2002</dc:title>
</cp:coreProperties>
</file>