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D6EF-0041-43BF-BD42-B1D8009D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79280" y="3732840"/>
            <a:ext cx="8785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83FC-1AC5-4162-9D03-5983D687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144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928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144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7158-3135-404E-9555-7A355356E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49640" y="83628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20000" y="83628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79280" y="373284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49640" y="373284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20000" y="3732840"/>
            <a:ext cx="282852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A868-C36D-46AE-BF85-55C3C0940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79280" y="836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7E12-D5F4-4DC5-835D-98A6D7D5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CFB2-DC8C-45D8-BDC8-5A97C403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39A1-68AA-4A2A-ABE4-09988F8D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169D-EBF6-4A73-9DAF-DC7EF0DB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94920" y="-229680"/>
            <a:ext cx="7078680" cy="50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91E8-3C4E-4817-AE48-62BD2E1F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44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7928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91F0-F6A8-4BAE-BCB1-0C6B889B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2872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1440" y="373284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ECA2-4239-4611-8569-4DC0B7E5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836280"/>
            <a:ext cx="42872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9280" y="3732840"/>
            <a:ext cx="878544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2E5F-B523-4C20-91D2-E7B7C5BB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79280" y="6485040"/>
            <a:ext cx="8496360" cy="0"/>
          </a:xfrm>
          <a:prstGeom prst="line">
            <a:avLst/>
          </a:prstGeom>
          <a:ln w="44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79280" y="476280"/>
            <a:ext cx="8785440" cy="0"/>
          </a:xfrm>
          <a:prstGeom prst="line">
            <a:avLst/>
          </a:prstGeom>
          <a:ln w="44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4920" y="-229680"/>
            <a:ext cx="7078680" cy="1097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Century Schoolbook"/>
              </a:rPr>
              <a:t>Click to edit the title text format</a:t>
            </a: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177840" y="6554160"/>
            <a:ext cx="9381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02 June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2550600" y="6522120"/>
            <a:ext cx="16765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entury Schoolbook"/>
              </a:rPr>
              <a:t>ATLAS SCT - TI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156000" y="6487920"/>
            <a:ext cx="93492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06F4-C18A-47B1-845A-04B7FF97A808}" type="slidenum"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720280" y="6343560"/>
            <a:ext cx="315720" cy="3859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 txBox="1"/>
          <p:nvPr/>
        </p:nvSpPr>
        <p:spPr>
          <a:xfrm>
            <a:off x="8310600" y="6561000"/>
            <a:ext cx="390600" cy="13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454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80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EP</a:t>
            </a:r>
            <a:endParaRPr b="1" lang="en-US" sz="12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80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179280" y="836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"/>
          <p:cNvSpPr/>
          <p:nvPr/>
        </p:nvSpPr>
        <p:spPr>
          <a:xfrm>
            <a:off x="179280" y="6742080"/>
            <a:ext cx="885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183480" y="4653000"/>
            <a:ext cx="25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Century Schoolbook"/>
              </a:rPr>
              <a:t>ATLAS SCT - T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25480" y="2564640"/>
            <a:ext cx="3746520" cy="610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entury Schoolbook"/>
              </a:rPr>
              <a:t>Physics &amp; Astronomy</a:t>
            </a:r>
            <a:br>
              <a:rPr sz="2000"/>
            </a:br>
            <a:r>
              <a:rPr b="1" lang="en-GB" sz="2000" spc="-1" strike="noStrike">
                <a:solidFill>
                  <a:srgbClr val="3333cc"/>
                </a:solidFill>
                <a:latin typeface="Century Schoolbook"/>
              </a:rPr>
              <a:t>HEP Electronics</a:t>
            </a:r>
            <a:endParaRPr b="1" i="1" lang="en-US" sz="2000" spc="-1" strike="noStrike">
              <a:solidFill>
                <a:srgbClr val="3333cc"/>
              </a:solidFill>
              <a:latin typeface="Century Schoolbook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833640" y="687240"/>
          <a:ext cx="1311480" cy="15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33640" y="687240"/>
                    <a:ext cx="131148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7236000" y="189000"/>
            <a:ext cx="16570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42920" y="5725440"/>
            <a:ext cx="691200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3333cc"/>
                </a:solidFill>
                <a:latin typeface="Century Schoolbook"/>
              </a:rPr>
              <a:t> </a:t>
            </a:r>
            <a:r>
              <a:rPr b="1" i="1" lang="en-GB" sz="1800" spc="-1" strike="noStrike">
                <a:solidFill>
                  <a:srgbClr val="3333cc"/>
                </a:solidFill>
                <a:latin typeface="Century Schoolbook"/>
              </a:rPr>
              <a:t>Martin Postranecky, Matthew War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6308640"/>
            <a:ext cx="8642160" cy="0"/>
          </a:xfrm>
          <a:prstGeom prst="line">
            <a:avLst/>
          </a:prstGeom>
          <a:ln w="44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8000" y="6381720"/>
            <a:ext cx="9036000" cy="476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3573360"/>
            <a:ext cx="79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entury Schoolbook"/>
              </a:rPr>
              <a:t>SCT  OFF-DETECTOR ELECTRONICS T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gger Board CDR - Matthew Warren  UC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56BB-AEE7-40D7-995C-1E679F7D47C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Oct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44280"/>
            <a:ext cx="4151160" cy="549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3333cc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rigger Board CDR - Matthew Warren  UC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DDED-6B4E-48A0-B052-E2E16629A20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 Oct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09:44:13Z</dcterms:created>
  <dc:creator>Matthew Warren</dc:creator>
  <dc:description/>
  <dc:language>en-US</dc:language>
  <cp:lastModifiedBy>mp</cp:lastModifiedBy>
  <cp:lastPrinted>2003-09-22T10:12:27Z</cp:lastPrinted>
  <dcterms:modified xsi:type="dcterms:W3CDTF">2005-06-01T14:29:05Z</dcterms:modified>
  <cp:revision>98</cp:revision>
  <dc:subject/>
  <dc:title>C+C for the SCT</dc:title>
</cp:coreProperties>
</file>