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A73-5ACF-4AF1-917B-236D2B04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2E8-022B-4576-850D-E978FBA8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082-1289-46F5-87E6-F4445BD3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D6D-9E4D-4254-AA9B-F277D358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A16-2109-4C31-8AE3-4C9B826B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E2D-4FD6-46BC-ABE6-3A184A9F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814-DDB4-4723-82B3-84C916C1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6E9-4D53-4983-81D4-E6F3BD16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44A-4FA0-4C42-9C45-50AFC60A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013-7233-48E9-BF4D-7D089800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0E1-AF86-4629-BDA7-60334171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8C8-2872-4C88-94EE-64B0DEE7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160" indent="-280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500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572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4640" indent="-223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4640" indent="-223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4640" indent="-223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09289D2-FB23-443E-9CC6-0A405BC4EC6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IM tests with ROD C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520" y="4365720"/>
            <a:ext cx="6408720" cy="576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hn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13240" y="5229360"/>
            <a:ext cx="2838240" cy="62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A8C-289A-472C-8236-783A8E8959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1600" cy="1204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>
            <a:off x="992160" y="765000"/>
            <a:ext cx="216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83400" y="476280"/>
            <a:ext cx="14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again no BC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or L1ID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07560" y="2852640"/>
            <a:ext cx="7684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The other events were checked and were as exp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se events indicate that TTC0-2, TTC4-TTC5 are transmitted cor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with the appropriate synchronis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A98-17FC-4F82-8CFA-78C6AD49CC8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OD B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e registers on TIM related to ROD BUS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BUSY – bit only set when BUSY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Latch – latches bit if BUSY present since cl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Monitor – latches bit if BUSY present for som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st by resetting the ROD – this creates a busy signal for several seconds (there is no way to get the ROD to generate a BUSY by e.g. setting a register). Monitor the above registers at 100msec interv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 that behave as expected – ROD BUSY only on when ROD BUSY set, other two registers l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16 ROD slots tested – correct bit set on each occasion (and the correct front panel LED on the TIM comes on). Necessary because the ROD BUSY line from each slot is on a separate backplan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D BUSY appears to be handled correctly by the T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CBB-FE32-46D7-ACF7-3C2CDBA9F8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omplex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 TIM triggers produce the same results as triggers generated internally in the RO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investigate this, do scans using both sorts of triggers and comp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AE6-C0A7-4630-9A4E-739F72D833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est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out facility at Cambridge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hree detector modules on single pre-series SCT barrel har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Power from SCT prototype LV and HV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ries ROD (Rev E) and BOC (Rev C) (transition card housing all incoming and outgoing fibre connections) with opto-plugins connected to harness fibre ribb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IM-3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CCT VP110 as SBC (current ATLAS standard CP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0">
              <a:spcBef>
                <a:spcPts val="499"/>
              </a:spcBef>
              <a:buNone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rpose of tests are to confirm that TIM interface to ROD and BOC is working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E80-A09F-49BC-85DA-451150C211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745240" y="5157720"/>
            <a:ext cx="1008000" cy="358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odul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97600" y="5157720"/>
            <a:ext cx="1008000" cy="358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odu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92520" y="5157720"/>
            <a:ext cx="1008360" cy="358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odu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240" y="476280"/>
            <a:ext cx="4753080" cy="3816360"/>
          </a:xfrm>
          <a:custGeom>
            <a:avLst/>
            <a:gdLst/>
            <a:ahLst/>
            <a:rect l="l" t="t" r="r" b="b"/>
            <a:pathLst>
              <a:path w="2637" h="2555">
                <a:moveTo>
                  <a:pt x="846" y="287"/>
                </a:moveTo>
                <a:cubicBezTo>
                  <a:pt x="1741" y="143"/>
                  <a:pt x="2637" y="0"/>
                  <a:pt x="2524" y="287"/>
                </a:cubicBezTo>
                <a:cubicBezTo>
                  <a:pt x="2411" y="574"/>
                  <a:pt x="332" y="1633"/>
                  <a:pt x="166" y="2011"/>
                </a:cubicBezTo>
                <a:cubicBezTo>
                  <a:pt x="0" y="2389"/>
                  <a:pt x="763" y="2472"/>
                  <a:pt x="1526" y="25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21240" y="4292640"/>
            <a:ext cx="1511280" cy="73080"/>
          </a:xfrm>
          <a:custGeom>
            <a:avLst/>
            <a:gdLst/>
            <a:ahLst/>
            <a:rect l="l" t="t" r="r" b="b"/>
            <a:pathLst>
              <a:path w="952" h="46">
                <a:moveTo>
                  <a:pt x="0" y="0"/>
                </a:moveTo>
                <a:cubicBezTo>
                  <a:pt x="0" y="0"/>
                  <a:pt x="476" y="23"/>
                  <a:pt x="952" y="4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21240" y="4292640"/>
            <a:ext cx="792000" cy="865080"/>
          </a:xfrm>
          <a:custGeom>
            <a:avLst/>
            <a:gdLst/>
            <a:ahLst/>
            <a:rect l="l" t="t" r="r" b="b"/>
            <a:pathLst>
              <a:path w="499" h="545">
                <a:moveTo>
                  <a:pt x="0" y="0"/>
                </a:moveTo>
                <a:cubicBezTo>
                  <a:pt x="162" y="45"/>
                  <a:pt x="325" y="91"/>
                  <a:pt x="408" y="182"/>
                </a:cubicBezTo>
                <a:cubicBezTo>
                  <a:pt x="491" y="273"/>
                  <a:pt x="495" y="409"/>
                  <a:pt x="499" y="5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32520" y="4365720"/>
            <a:ext cx="504720" cy="792000"/>
          </a:xfrm>
          <a:custGeom>
            <a:avLst/>
            <a:gdLst/>
            <a:ahLst/>
            <a:rect l="l" t="t" r="r" b="b"/>
            <a:pathLst>
              <a:path w="318" h="499">
                <a:moveTo>
                  <a:pt x="0" y="0"/>
                </a:moveTo>
                <a:cubicBezTo>
                  <a:pt x="87" y="26"/>
                  <a:pt x="174" y="53"/>
                  <a:pt x="227" y="136"/>
                </a:cubicBezTo>
                <a:cubicBezTo>
                  <a:pt x="280" y="219"/>
                  <a:pt x="303" y="439"/>
                  <a:pt x="318" y="49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32520" y="4365720"/>
            <a:ext cx="1297080" cy="71280"/>
          </a:xfrm>
          <a:custGeom>
            <a:avLst/>
            <a:gdLst/>
            <a:ahLst/>
            <a:rect l="l" t="t" r="r" b="b"/>
            <a:pathLst>
              <a:path w="817" h="45">
                <a:moveTo>
                  <a:pt x="0" y="0"/>
                </a:moveTo>
                <a:cubicBezTo>
                  <a:pt x="340" y="19"/>
                  <a:pt x="681" y="38"/>
                  <a:pt x="817" y="45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29600" y="4437000"/>
            <a:ext cx="360360" cy="720720"/>
          </a:xfrm>
          <a:custGeom>
            <a:avLst/>
            <a:gdLst/>
            <a:ahLst/>
            <a:rect l="l" t="t" r="r" b="b"/>
            <a:pathLst>
              <a:path w="227" h="454">
                <a:moveTo>
                  <a:pt x="0" y="0"/>
                </a:moveTo>
                <a:cubicBezTo>
                  <a:pt x="71" y="30"/>
                  <a:pt x="143" y="61"/>
                  <a:pt x="181" y="136"/>
                </a:cubicBezTo>
                <a:cubicBezTo>
                  <a:pt x="219" y="211"/>
                  <a:pt x="223" y="332"/>
                  <a:pt x="227" y="45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01960" y="1341360"/>
            <a:ext cx="149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6-way fibre rib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(Clock and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81240" y="2133720"/>
            <a:ext cx="4392360" cy="2590560"/>
          </a:xfrm>
          <a:custGeom>
            <a:avLst/>
            <a:gdLst/>
            <a:ahLst/>
            <a:rect l="l" t="t" r="r" b="b"/>
            <a:pathLst>
              <a:path w="3190" h="1632">
                <a:moveTo>
                  <a:pt x="1504" y="0"/>
                </a:moveTo>
                <a:cubicBezTo>
                  <a:pt x="2347" y="22"/>
                  <a:pt x="3190" y="45"/>
                  <a:pt x="2956" y="272"/>
                </a:cubicBezTo>
                <a:cubicBezTo>
                  <a:pt x="2722" y="499"/>
                  <a:pt x="196" y="1133"/>
                  <a:pt x="98" y="1360"/>
                </a:cubicBezTo>
                <a:cubicBezTo>
                  <a:pt x="0" y="1587"/>
                  <a:pt x="1988" y="1587"/>
                  <a:pt x="2366" y="1632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21240" y="4724280"/>
            <a:ext cx="1511280" cy="73080"/>
          </a:xfrm>
          <a:custGeom>
            <a:avLst/>
            <a:gdLst/>
            <a:ahLst/>
            <a:rect l="l" t="t" r="r" b="b"/>
            <a:pathLst>
              <a:path w="952" h="46">
                <a:moveTo>
                  <a:pt x="0" y="0"/>
                </a:moveTo>
                <a:cubicBezTo>
                  <a:pt x="0" y="0"/>
                  <a:pt x="476" y="23"/>
                  <a:pt x="952" y="46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21240" y="4724280"/>
            <a:ext cx="360360" cy="43344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2520" y="4797360"/>
            <a:ext cx="1297080" cy="71640"/>
          </a:xfrm>
          <a:custGeom>
            <a:avLst/>
            <a:gdLst/>
            <a:ahLst/>
            <a:rect l="l" t="t" r="r" b="b"/>
            <a:pathLst>
              <a:path w="817" h="45">
                <a:moveTo>
                  <a:pt x="0" y="0"/>
                </a:moveTo>
                <a:cubicBezTo>
                  <a:pt x="340" y="19"/>
                  <a:pt x="681" y="38"/>
                  <a:pt x="817" y="4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61240" y="4797360"/>
            <a:ext cx="431640" cy="36036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61240" y="4797360"/>
            <a:ext cx="360360" cy="36036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29600" y="4869000"/>
            <a:ext cx="144360" cy="28872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29600" y="4869000"/>
            <a:ext cx="215640" cy="28872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92520" y="4724280"/>
            <a:ext cx="360360" cy="43344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2320" y="4653000"/>
            <a:ext cx="147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12-way fibre rib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(D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08880" y="836640"/>
            <a:ext cx="936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V/H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40880" y="1700280"/>
            <a:ext cx="0" cy="1152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85240" y="1700280"/>
            <a:ext cx="0" cy="1152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29600" y="1700280"/>
            <a:ext cx="0" cy="1152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53600" y="2852640"/>
            <a:ext cx="64908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97600" y="1986120"/>
            <a:ext cx="1532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17600" y="206064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Conv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C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84880" y="3789360"/>
            <a:ext cx="2125800" cy="2328840"/>
          </a:xfrm>
          <a:custGeom>
            <a:avLst/>
            <a:gdLst/>
            <a:ahLst/>
            <a:rect l="l" t="t" r="r" b="b"/>
            <a:pathLst>
              <a:path w="1339" h="1467">
                <a:moveTo>
                  <a:pt x="1134" y="0"/>
                </a:moveTo>
                <a:cubicBezTo>
                  <a:pt x="1236" y="491"/>
                  <a:pt x="1339" y="983"/>
                  <a:pt x="1316" y="1225"/>
                </a:cubicBezTo>
                <a:cubicBezTo>
                  <a:pt x="1293" y="1467"/>
                  <a:pt x="1187" y="1444"/>
                  <a:pt x="998" y="1451"/>
                </a:cubicBezTo>
                <a:cubicBezTo>
                  <a:pt x="809" y="1458"/>
                  <a:pt x="348" y="1331"/>
                  <a:pt x="182" y="1270"/>
                </a:cubicBezTo>
                <a:cubicBezTo>
                  <a:pt x="16" y="1209"/>
                  <a:pt x="8" y="1148"/>
                  <a:pt x="0" y="1088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32520" y="3789360"/>
            <a:ext cx="3432240" cy="2436840"/>
          </a:xfrm>
          <a:custGeom>
            <a:avLst/>
            <a:gdLst/>
            <a:ahLst/>
            <a:rect l="l" t="t" r="r" b="b"/>
            <a:pathLst>
              <a:path w="2162" h="1535">
                <a:moveTo>
                  <a:pt x="1905" y="0"/>
                </a:moveTo>
                <a:cubicBezTo>
                  <a:pt x="2022" y="465"/>
                  <a:pt x="2139" y="930"/>
                  <a:pt x="2132" y="1179"/>
                </a:cubicBezTo>
                <a:cubicBezTo>
                  <a:pt x="2125" y="1428"/>
                  <a:pt x="2162" y="1459"/>
                  <a:pt x="1860" y="1497"/>
                </a:cubicBezTo>
                <a:cubicBezTo>
                  <a:pt x="1558" y="1535"/>
                  <a:pt x="628" y="1474"/>
                  <a:pt x="318" y="1406"/>
                </a:cubicBezTo>
                <a:cubicBezTo>
                  <a:pt x="8" y="1338"/>
                  <a:pt x="4" y="1213"/>
                  <a:pt x="0" y="1088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73600" y="3789360"/>
            <a:ext cx="4883040" cy="2543040"/>
          </a:xfrm>
          <a:custGeom>
            <a:avLst/>
            <a:gdLst/>
            <a:ahLst/>
            <a:rect l="l" t="t" r="r" b="b"/>
            <a:pathLst>
              <a:path w="3076" h="1602">
                <a:moveTo>
                  <a:pt x="2744" y="0"/>
                </a:moveTo>
                <a:cubicBezTo>
                  <a:pt x="2842" y="397"/>
                  <a:pt x="2941" y="794"/>
                  <a:pt x="2971" y="1043"/>
                </a:cubicBezTo>
                <a:cubicBezTo>
                  <a:pt x="3001" y="1292"/>
                  <a:pt x="3076" y="1406"/>
                  <a:pt x="2925" y="1497"/>
                </a:cubicBezTo>
                <a:cubicBezTo>
                  <a:pt x="2774" y="1588"/>
                  <a:pt x="2494" y="1602"/>
                  <a:pt x="2063" y="1587"/>
                </a:cubicBezTo>
                <a:cubicBezTo>
                  <a:pt x="1632" y="1572"/>
                  <a:pt x="680" y="1489"/>
                  <a:pt x="340" y="1406"/>
                </a:cubicBezTo>
                <a:cubicBezTo>
                  <a:pt x="0" y="1323"/>
                  <a:pt x="11" y="1205"/>
                  <a:pt x="22" y="1088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4280" y="5516640"/>
            <a:ext cx="84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Low-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Elect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t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0680" y="249228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9U VME64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02320" y="90792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6U V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8520" y="5589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chematic of layout for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2880" y="115920"/>
            <a:ext cx="3097440" cy="232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705-E7F7-417A-8B4E-DA370E94DB5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impl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confirm that the TIM/ROD interface is cor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llowing signals need check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40MHz clock supplied to RODs from TIM. Clock is in fact supplied from TIM to BOC and then redistributed to the R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TC signals from TIM to RODs. Eight signals (L1A,ECReset, BCReset, CAL, Serial ID, Serial TT, FEReset, spare) are supplied to each R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BUSY from each ROD to T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29F-4DAE-4678-8F2C-5F497DC980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GB" sz="25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B76-C470-4F97-9302-715E01F518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T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 the TTC signals propagate from TIM to ROD correct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1A (TTC0) must be seen for triggering to occur at 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CR (TTC1) is counted in the top nibble of the L1ID, and synchronises the L1ID in the ROD and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CR (TTC2) is required to synchronise the BC number in the ROD and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ial ID (TTC4) – the ROD will not generate events until this is received, and the data must match that exp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ial TT (TTC5) – events should contain the Trigger Type as generated in the T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ER (TTC6) and spare (TTC7) are not used by ROD – all we can do is look for signals on a sc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L(TTC3) is not used in subsequent test – only employed when want to generate a calibrate pulse for the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54C-600F-4E80-89EC-81EB84DDA6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T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ckground to this t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tup ROD to accept triggers from TIM (rather than generated interna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tup ROD and BOC in data-taking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tup TIM to generate triggers with correct BC offset (to allow for propagation time of commends to front en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Generate a BCR to synchronise Bunch Count in ROD and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Generate a ECR to synchronise Event Count. This also has effect of incrementing the ECR counter in the ROD (see the L1IDs report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1BD-EDD4-4810-B539-2841116E0A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2216160" y="765000"/>
            <a:ext cx="79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6440" y="1413000"/>
            <a:ext cx="34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oop setting Trigger Type to 1,2,4,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and then generating a single TIM tri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4684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>
            <a:off x="2289240" y="5084640"/>
            <a:ext cx="151128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639800" y="3573360"/>
            <a:ext cx="64944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8160" y="4581360"/>
            <a:ext cx="165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First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1ID=0x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96880" y="3068640"/>
            <a:ext cx="165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ast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1ID=0x1000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184880" y="1341360"/>
            <a:ext cx="115272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1360" y="105264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Correct trigger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689960" y="2637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96480" y="234936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Data du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module in “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mask”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0320" y="378936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ECR Cou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431800" y="3573360"/>
            <a:ext cx="57780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52880" y="4076640"/>
            <a:ext cx="72072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113240" y="620640"/>
            <a:ext cx="107964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78640" y="33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Decode first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FB4-9928-43D4-9E33-B8B0EA03215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6108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45040" y="0"/>
            <a:ext cx="4861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1065240" y="4005360"/>
            <a:ext cx="129528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1760" y="3860640"/>
            <a:ext cx="16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No BCID or L1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072880" y="4581360"/>
            <a:ext cx="10796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84840" y="4508640"/>
            <a:ext cx="11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Decode la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144520" y="5157720"/>
            <a:ext cx="1439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71000" y="5373720"/>
            <a:ext cx="178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Correct trigger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(=2</a:t>
            </a:r>
            <a:r>
              <a:rPr b="0" lang="en-GB" sz="16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SCT TIM PRR/FD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9D5-99A2-4221-A109-D646FF10717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4:20:03Z</dcterms:created>
  <dc:creator>hill</dc:creator>
  <dc:description/>
  <dc:language>en-US</dc:language>
  <cp:lastModifiedBy>hill</cp:lastModifiedBy>
  <cp:lastPrinted>2002-12-04T15:16:21Z</cp:lastPrinted>
  <dcterms:modified xsi:type="dcterms:W3CDTF">2004-06-18T11:43:03Z</dcterms:modified>
  <cp:revision>72</cp:revision>
  <dc:subject/>
  <dc:title>ROD Workshop III (Annecy), 14/15 November 2002</dc:title>
</cp:coreProperties>
</file>