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74687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8BF1-2AD2-497F-AEF8-3241D6042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D493-F1E8-46C6-8BFD-2E597D87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8770-16D9-4F85-B3B1-73CAE83E2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E1C6-EDD1-4DC6-ACB4-9F750854F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A328-0AA2-4BB0-B3E0-0AE87E51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6355-6051-4C54-9B5E-1040A291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F2BC-22C9-469A-9FCA-8BAB5363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5018-164F-48BB-B415-6D896056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56FE-F8B9-4573-8AB5-A0841C18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FBF1-AA93-4C1A-959D-0DA52AA1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9A65-26E5-476F-9E3D-4218AF0A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19E3-3789-4964-ABF0-0699F0A5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1A9B-C4EF-404A-BBDB-3F77F78DD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2680" y="-3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US MVD Helix Dr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9372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E wire-wrap board constru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s registers that can be loaded via V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ers contain the HELIX setup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VME cycle operation achieved by base address offset decoding in parallel with data transf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tails at: http://www.hep.ucl.ac.uk/~dah/zeus/helix_driver_registers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up data can be loaded into the registers and readback to check integr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urier New"/>
              </a:rPr>
              <a:t>CLOCK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Courier New"/>
              </a:rPr>
              <a:t>TRIGGE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Courier New"/>
              </a:rPr>
              <a:t>NO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urier New"/>
              </a:rPr>
              <a:t>RE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2400" spc="-1" strike="noStrike">
                <a:solidFill>
                  <a:srgbClr val="3333cc"/>
                </a:solidFill>
                <a:latin typeface="Courier New"/>
              </a:rPr>
              <a:t>TES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urier New"/>
              </a:rPr>
              <a:t>PU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put from the M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(LVDS to CAB) </a:t>
            </a:r>
            <a:r>
              <a:rPr b="0" lang="en-US" sz="2400" spc="-1" strike="noStrike">
                <a:solidFill>
                  <a:srgbClr val="00cc99"/>
                </a:solidFill>
                <a:latin typeface="Courier New"/>
              </a:rPr>
              <a:t>SERIAL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Courier New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cc99"/>
                </a:solidFill>
                <a:latin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lse in addition to </a:t>
            </a:r>
            <a:r>
              <a:rPr b="0" lang="en-US" sz="2400" spc="-1" strike="noStrike">
                <a:solidFill>
                  <a:srgbClr val="00cc99"/>
                </a:solidFill>
                <a:latin typeface="Courier New"/>
              </a:rPr>
              <a:t>TRIGGER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cc99"/>
                </a:solidFill>
                <a:latin typeface="Courier New"/>
              </a:rPr>
              <a:t>RESET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cc99"/>
                </a:solidFill>
                <a:latin typeface="Courier New"/>
              </a:rPr>
              <a:t>TEST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Courier New"/>
              </a:rPr>
              <a:t>PU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2400" spc="-1" strike="noStrike">
                <a:solidFill>
                  <a:srgbClr val="00cc99"/>
                </a:solidFill>
                <a:latin typeface="Courier New"/>
              </a:rPr>
              <a:t>CLO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s 13 January 2000: opera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419680" y="640080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H/13Jan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UCL%20logo" descr=""/>
          <p:cNvPicPr/>
          <p:nvPr/>
        </p:nvPicPr>
        <p:blipFill>
          <a:blip r:embed="rId1"/>
          <a:stretch/>
        </p:blipFill>
        <p:spPr>
          <a:xfrm>
            <a:off x="8991720" y="228600"/>
            <a:ext cx="6840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48320" y="1519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ix Dri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495680" y="1447920"/>
            <a:ext cx="5181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h5 CPLD implements VME interface and board log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24:D16 VME interf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VD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T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T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V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TT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CL for use with existing test set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hd_front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3695760" cy="6096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534160" y="640080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H/13Jan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UCL%20logo" descr=""/>
          <p:cNvPicPr/>
          <p:nvPr/>
        </p:nvPicPr>
        <p:blipFill>
          <a:blip r:embed="rId2"/>
          <a:stretch/>
        </p:blipFill>
        <p:spPr>
          <a:xfrm>
            <a:off x="8991720" y="228600"/>
            <a:ext cx="6840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3T12:15:45Z</dcterms:created>
  <dc:creator>dah</dc:creator>
  <dc:description/>
  <dc:language>en-US</dc:language>
  <cp:lastModifiedBy>dah</cp:lastModifiedBy>
  <cp:lastPrinted>2000-01-13T15:04:15Z</cp:lastPrinted>
  <dcterms:modified xsi:type="dcterms:W3CDTF">2000-01-13T15:23:58Z</dcterms:modified>
  <cp:revision>7</cp:revision>
  <dc:subject/>
  <dc:title>Helix Driver Interface</dc:title>
</cp:coreProperties>
</file>